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471D-A936-4226-8021-0D3FC60ABC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020-228F-40A2-928E-7BD6BB30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32E-8136-47E9-9C68-2809F20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A92-F642-424F-8FBF-34D70EDB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81E-1DA7-461A-9407-9A09F656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072C-A69B-4E7D-888B-65FE3D45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F468-C19C-4D5E-BB37-AC72CC45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DF9-6E82-43F3-A856-393FE86B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9025-F100-485B-8223-22B6CDC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A60E-A786-4BE1-A972-DC4881B5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F0F4-8498-449F-AFD6-4AF602DB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EAA3-A86F-4100-93A2-215E968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128-465A-4CC7-9837-637C2012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E5FC-8C0C-499E-AD84-9F12FDE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E67A-B305-4864-AEA5-133FCF2C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7215-DF93-493C-9EB8-DE63A120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A7FA-C27D-4612-A7DC-C3E5A827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1796-B6EA-4678-A7FD-24EBD673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0A2-0647-4EDD-AD0F-2D4E9FC5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186-DCD6-4451-88B0-62B3D239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284-8DEF-4D6F-9931-5268A412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756-B465-4CDF-8D34-E1DAD247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EE9-3936-4F3B-9E9E-A1E2708E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311-EF97-4E0C-91B7-B59CA57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9F4-428B-4902-A984-F427C9FF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A4C3-2975-4617-A2DB-06122EDFD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145E-E20C-4FED-B468-6A3D8CE95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LEGION</cp:lastModifiedBy>
  <dcterms:modified xsi:type="dcterms:W3CDTF">2017-07-03T09:55:55Z</dcterms:modified>
  <cp:revision>9</cp:revision>
  <dc:subject/>
  <dc:title>The Persian Wars</dc:title>
</cp:coreProperties>
</file>